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6896-B0CE-4546-9108-B017DE25C2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2807-670C-4076-B9B4-310A8E4494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E0BE-75CD-4FAE-ABE8-EB69E2B682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21C6-2F1A-4577-98F0-11EADD6B0E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A666-172D-4355-8551-D41BF5B3C4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09BC-0DAB-47B2-9398-256C36CCBA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F668-5536-4895-977E-F5D71ABEE8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AA0A-1D99-4137-8448-889632F5DF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351D-9D03-4AD9-87D3-CEBDBB49B8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3CD4-1D6E-4AE1-9DC6-B6BA4BA814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A889-EFCB-4E7A-AE18-596E48FCE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A572-497B-45C4-9C1B-F4A30DF8FD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284F-51CB-4BBE-89F0-CE47202D46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6E10-062D-4542-8194-E9552E7539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2FAD-21FD-4CB8-A24D-77A3B12F11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0EF7-6095-40AB-9977-93B7103F3E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D613-D36D-4907-AE9A-B527CB7265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3614-CA03-4B71-BF53-0258A4877A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48EE-92DD-4CC7-B49F-88D28EFDB8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D7CC-93E7-49E6-BDAB-4A1AE798F9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5E8F-1E65-4B3D-8162-338442A300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1D0A-97BE-4E79-AC2F-82C7238DD4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254C-CC95-495D-9052-09EC7FA472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3A8E-7B36-453D-8EC5-9FAFE0D4CC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D25D-9F20-4A93-AA20-801F5F5766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1A7D-9079-445C-B695-1999556364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EC07-956F-44C8-89AF-D7C388CF01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E7D5-E6BA-4E8B-A80F-DFA95A6AEF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0BA8-F771-40BF-8B01-0E80C9A8A9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F904-7BFC-49BC-AA68-F2F80B2F61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B9C2-1484-4D47-B540-87CC37E2CC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ECB1-B216-42EC-94F7-6C3505BB96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FB99-D601-40DF-84D3-25CF81BBEB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F3E5-DEC2-466D-9B54-A33744423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697F-4721-4ED3-82FF-DDE646FABD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75E7-F937-42F0-8E72-507AE7FEBD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62A2-316C-43D3-8951-E3727E8323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6823-AD33-45A0-8C86-610EFA356E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9E7E-38CF-4BAE-8E22-BA82033DE9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283F-1710-4328-B6AE-3CA984C27D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80F3-2527-4164-8AC5-CF36EA7B4B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E1A3-9549-46ED-95F4-B2FDBCFBDC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4EA3-A350-4893-8400-A197417DB9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C5E3-928D-4429-BA0C-302EBCDD9B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41BE-7563-41AD-93B5-47518C6B24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F7C5-3ED3-40A4-8ED9-F676D88A68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4AF3-F892-464F-B4FF-E709113FBA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DCAF-DA6F-4C88-A4BC-8F70632848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27C7-0092-49BC-A49C-4527669FF5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4610-01DA-4A00-8595-7F9EBB6557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D3A6-D84D-4D44-BE43-2B84451A0D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6F6-4703-4DBB-97EA-D89963B9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3877-FFFE-41A2-9BE2-41F0AA4A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10FE-0351-4BB9-8038-A07B876E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4CF-40C6-4E8D-9F3F-2EEC201E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2F1E-C5ED-46CB-99D8-6C4002F9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F0C7-9A88-4473-B92B-C8F1EC2F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7EF8-3F77-4844-B22E-65BEE370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DC28-B895-4D6C-9B4C-CE7469E3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AE6-035F-4BCB-A1CF-74916215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CF8-CCB3-48CE-BFEC-D0F344F1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A5F0-9203-4FC0-A955-07E44DD8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5EFD-D475-468E-9F94-0C672268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983E-1999-4B77-A604-E4AB8C7A4CB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20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28640"/>
          <a:ext cx="8229600" cy="5004000"/>
        </p:xfrm>
        <a:graphic>
          <a:graphicData uri="http://schemas.openxmlformats.org/drawingml/2006/table">
            <a:tbl>
              <a:tblPr/>
              <a:tblGrid>
                <a:gridCol w="1297080"/>
                <a:gridCol w="503280"/>
                <a:gridCol w="950760"/>
                <a:gridCol w="1096920"/>
                <a:gridCol w="1095480"/>
                <a:gridCol w="1095480"/>
                <a:gridCol w="1095120"/>
                <a:gridCol w="1095480"/>
              </a:tblGrid>
              <a:tr h="54828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Число физических лиц» показывают только основных работников, имеющих трудовую книжку в данной медицинск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(всего) должна быть равна сумме строк 1, 2, 3, 4 по графам 3, 4, 5, 6, 7,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212760" y="1197000"/>
            <a:ext cx="8823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3=141.1000.1.03+141.1000.2.03+141.1000.3.03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4=141.1000.1.04+141.1000.2.04+141.1000.3.04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5=141.1000.1.05+141.1000.2.05+141.1000.3.05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17440" y="1197000"/>
            <a:ext cx="87519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, включая стационары на до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6=141.1000.1.06 + 141.1000.2.06 +141.1000.3.06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7=141.1000.1.07 + 141.1000.2.07 +141.1000.3.07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8=141.1000.1.08 + 141.1000.2.08 +141.1000.3.08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484280"/>
          <a:ext cx="8496360" cy="50990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64296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628640"/>
          <a:ext cx="8497800" cy="4853160"/>
        </p:xfrm>
        <a:graphic>
          <a:graphicData uri="http://schemas.openxmlformats.org/drawingml/2006/table">
            <a:tbl>
              <a:tblPr/>
              <a:tblGrid>
                <a:gridCol w="649440"/>
                <a:gridCol w="431640"/>
                <a:gridCol w="539640"/>
                <a:gridCol w="5414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от 9 декабря 1999 г. № 438 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960" y="155736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38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указываются данные о числе выписанных детей до 3 лет и проведенными ими пациенто-дн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320" y="58680"/>
            <a:ext cx="8713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0160" y="928800"/>
          <a:ext cx="8496000" cy="5742000"/>
        </p:xfrm>
        <a:graphic>
          <a:graphicData uri="http://schemas.openxmlformats.org/drawingml/2006/table">
            <a:tbl>
              <a:tblPr/>
              <a:tblGrid>
                <a:gridCol w="1079280"/>
                <a:gridCol w="412920"/>
                <a:gridCol w="647640"/>
                <a:gridCol w="503280"/>
                <a:gridCol w="504720"/>
                <a:gridCol w="503280"/>
                <a:gridCol w="576360"/>
                <a:gridCol w="720720"/>
                <a:gridCol w="576000"/>
                <a:gridCol w="576360"/>
                <a:gridCol w="503280"/>
                <a:gridCol w="720720"/>
                <a:gridCol w="647640"/>
                <a:gridCol w="523800"/>
              </a:tblGrid>
              <a:tr h="365400"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-годо-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го-д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нек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-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2898720" y="380052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820880" y="421956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394160" y="42195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0" y="42148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835680" y="46213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394160" y="4695840"/>
            <a:ext cx="87948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50072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85800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816200" y="56293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2901960" y="6207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643720" y="37861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8151840" y="37544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8070840" y="46465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8070840" y="6215040"/>
            <a:ext cx="83664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721480" y="61642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721480" y="45813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721480" y="51084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2832120" y="5118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8070840" y="50896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 графам 15-26 указываются сведения о числе коек, выписанных пациентах и проведенных ими пациенто-днях в дневных стационарах медицинских организаций, оказывающих помощь в амбулаторных условиях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стационары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2 - 75 по графам 15-26 заполняются данные только о работе дневных стационаров медицинских  организаций, оказывающих помощь в амбулаторных условиях по профиля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ационаров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331640"/>
            <a:ext cx="8229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1080" y="1214280"/>
            <a:ext cx="8605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4320" y="1082520"/>
            <a:ext cx="860580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4600" y="1315800"/>
            <a:ext cx="8301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93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268280"/>
            <a:ext cx="8535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2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28760" y="765000"/>
          <a:ext cx="8286480" cy="596124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552600"/>
                <a:gridCol w="722160"/>
                <a:gridCol w="814320"/>
                <a:gridCol w="695520"/>
                <a:gridCol w="931680"/>
                <a:gridCol w="812880"/>
                <a:gridCol w="814320"/>
              </a:tblGrid>
              <a:tr h="1461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1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4440" y="765000"/>
          <a:ext cx="8001000" cy="5793120"/>
        </p:xfrm>
        <a:graphic>
          <a:graphicData uri="http://schemas.openxmlformats.org/drawingml/2006/table">
            <a:tbl>
              <a:tblPr/>
              <a:tblGrid>
                <a:gridCol w="2544840"/>
                <a:gridCol w="288720"/>
                <a:gridCol w="590760"/>
                <a:gridCol w="718920"/>
                <a:gridCol w="865080"/>
                <a:gridCol w="648000"/>
                <a:gridCol w="693720"/>
                <a:gridCol w="825480"/>
                <a:gridCol w="825480"/>
              </a:tblGrid>
              <a:tr h="30492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356840"/>
            <a:ext cx="83912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2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+141.3000.21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+141.3500.22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, включая стационары на дому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+141.3000.21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+141.3500.22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00040" y="7858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полнительные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казателях работы дневных стационаров медицинских организаций, оказывающих помощь на дом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ционаров на дому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7400" y="333360"/>
            <a:ext cx="82566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субъекта Российской Федерации ___________________________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РАБОТЫ ДНЕВНЫХ СТАЦИОНАРОВ МЕДИЦИНСКИХ ОРГАНИЗАЦИЙ, ОКАЗЫВАЮЩИХ МЕДИЦИНСКУЮ ПОМОЩЬ НА ДОМУ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к дневных стационаров медицинских организаций, оказывающих медицинскую помощь на дому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049480"/>
          <a:ext cx="8064720" cy="3176640"/>
        </p:xfrm>
        <a:graphic>
          <a:graphicData uri="http://schemas.openxmlformats.org/drawingml/2006/table">
            <a:tbl>
              <a:tblPr/>
              <a:tblGrid>
                <a:gridCol w="1584360"/>
                <a:gridCol w="360360"/>
                <a:gridCol w="358920"/>
                <a:gridCol w="504720"/>
                <a:gridCol w="503280"/>
                <a:gridCol w="576360"/>
                <a:gridCol w="544320"/>
                <a:gridCol w="573120"/>
                <a:gridCol w="498600"/>
                <a:gridCol w="466560"/>
                <a:gridCol w="561960"/>
                <a:gridCol w="561960"/>
                <a:gridCol w="517680"/>
                <a:gridCol w="452520"/>
              </a:tblGrid>
              <a:tr h="140760"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него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-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160"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9640" y="5246640"/>
          <a:ext cx="8209080" cy="685800"/>
        </p:xfrm>
        <a:graphic>
          <a:graphicData uri="http://schemas.openxmlformats.org/drawingml/2006/table">
            <a:tbl>
              <a:tblPr/>
              <a:tblGrid>
                <a:gridCol w="149400"/>
                <a:gridCol w="2636640"/>
                <a:gridCol w="2819160"/>
                <a:gridCol w="1455120"/>
                <a:gridCol w="138960"/>
                <a:gridCol w="1009800"/>
              </a:tblGrid>
              <a:tr h="548280">
                <a:tc gridSpan="4"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дневном стационаре при  подразделениях медицинских организаций, оказывающих медицинскую помощь  на дому всего 1________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етей 2 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75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39640" y="5950080"/>
          <a:ext cx="8136000" cy="365040"/>
        </p:xfrm>
        <a:graphic>
          <a:graphicData uri="http://schemas.openxmlformats.org/drawingml/2006/table">
            <a:tbl>
              <a:tblPr/>
              <a:tblGrid>
                <a:gridCol w="7373880"/>
                <a:gridCol w="439920"/>
                <a:gridCol w="322200"/>
              </a:tblGrid>
              <a:tr h="3650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исанных сельских жителей из дневных стационаров медицинских организаций, оказывающих медицинскую помощь  на дому 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3560" y="5079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Взрослые (18 лет и старше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36680" y="1027080"/>
          <a:ext cx="8286480" cy="5775480"/>
        </p:xfrm>
        <a:graphic>
          <a:graphicData uri="http://schemas.openxmlformats.org/drawingml/2006/table">
            <a:tbl>
              <a:tblPr/>
              <a:tblGrid>
                <a:gridCol w="3558960"/>
                <a:gridCol w="360360"/>
                <a:gridCol w="720720"/>
                <a:gridCol w="1295640"/>
                <a:gridCol w="1368360"/>
                <a:gridCol w="9824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Дети (0-17 лет включительн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28760" y="957240"/>
          <a:ext cx="8229600" cy="5538960"/>
        </p:xfrm>
        <a:graphic>
          <a:graphicData uri="http://schemas.openxmlformats.org/drawingml/2006/table">
            <a:tbl>
              <a:tblPr/>
              <a:tblGrid>
                <a:gridCol w="3495600"/>
                <a:gridCol w="360360"/>
                <a:gridCol w="718920"/>
                <a:gridCol w="1440000"/>
                <a:gridCol w="1297080"/>
                <a:gridCol w="9176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30 декабря 2002 г. № 413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от 30.12.2002 г. № 413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13 ноября 2003 г. № 548 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cp:lastPrinted>2020-12-02T13:53:05Z</cp:lastPrinted>
  <dcterms:modified xsi:type="dcterms:W3CDTF">2020-12-03T06:27:00Z</dcterms:modified>
  <cp:revision>378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